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bomb.wav" ContentType="audio/x-wav"/>
  <Override PartName="/ppt/media/image3.jpeg" ContentType="image/jpeg"/>
  <Override PartName="/ppt/media/image5.jpeg" ContentType="image/jpeg"/>
  <Override PartName="/ppt/media/image6.wmf" ContentType="image/x-wmf"/>
  <Override PartName="/ppt/media/image7.png" ContentType="image/png"/>
  <Override PartName="/ppt/media/image8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7CDD0-5040-40C2-9FE8-3771336A8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like you wouldn’t like it if someone made decisions that affect your life, neither does your teenag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like you wouldn’t like it if someone made decisions that affect your life, neither does your teenag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know what you mean” is wrong for two big reas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shuts off the dialogue because it communicates that there is nothing more to be understood. (There i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lway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to understand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ommunicates that you are not much interested in listening to the other person anymor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how did that make you feel?” is too overused and is a sure way to shut a teenager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1369-E673-4C6A-B164-8B3680BCD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6632-BFEC-456D-909B-E3ACFEB35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91C9-0297-4AB8-BE5D-9C374CBE2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A7E4-9A4C-4F7A-8270-10691A199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8C1B9D-F437-4649-8211-92CA43C78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F8B848-DE61-4027-9789-194D149DE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AF697D-7A18-4748-B8F3-F6921C9C4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A29425-9FBF-4D4D-8E77-49761C354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CFA62B-8260-47AB-A849-A33843DBC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2EE30F-B073-4A4C-AF0B-CDE1E3ABB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83E886-58C4-49CF-8C04-8CDF27A3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B1B3-C0C4-4C84-91FC-8003F531B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8B4AD2-E14C-4642-B133-38FACC67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99388D-F04A-4037-89DD-A38CD1D3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DD2929-2B2A-4346-854D-9D137552A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22BB57-B0D2-481A-85A2-6A32CD91F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5CEB4B-CB4C-41D2-877F-EE9EE6C79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500E8-B9A8-40BC-AF69-71FE424FD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F5384-E3C9-4DD4-825F-B1E748124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CB1D9-4E66-4DAA-9A76-4471E39E8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5724A-179F-40DA-AB06-4164B9F79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4A664-C8EB-46AB-8603-F1F9A2AD5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0B1F-680B-48A6-A6A4-57DC4DE9D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F9D15-291D-4882-90C6-9497DF6FF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17EF4-487E-4CF6-ADC4-F9B4511D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9A31D-023D-47B2-BD96-08808F4F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83C1B-1618-45CF-81CD-3D5568C9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FF41E-F66E-4E12-B49C-E99AC8A01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76F6D-1B0F-44A9-9020-0A838BC3F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16CFA-4470-46E1-8FD5-545F4023B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0B46-BE91-48C8-8952-877268FEE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8120-38B3-4DCA-BF18-E97D6D861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4B88-3115-4D2D-A38D-B9B3FAADF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FEEE-2ACC-4BDD-9697-8A7FF620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F4F2-6277-41ED-9C23-A4EDD721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91CE-3169-4BD6-8125-A287B204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FBE20-25FF-4CC7-86AA-4147F61B9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1B29F-7952-45CF-95B4-43B88E473DC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79E3A-F464-413B-B384-86A2EB20260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audio" Target="../media/bomb.wav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shakespeare.emory.edu/postcarddisplay.cfm?cardid=54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How to Talk to a Brick Wall:</a:t>
            </a:r>
            <a:br>
              <a:rPr sz="3200"/>
            </a:br>
            <a:r>
              <a:rPr b="0" lang="en-US" sz="1700" spc="-1" strike="noStrike">
                <a:solidFill>
                  <a:srgbClr val="000000"/>
                </a:solidFill>
                <a:latin typeface="Broadway"/>
              </a:rPr>
              <a:t>Tearing Down the Barriers between You and Your Teenag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Jessica and Enr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irewall"/>
          <p:cNvSpPr/>
          <p:nvPr/>
        </p:nvSpPr>
        <p:spPr>
          <a:xfrm>
            <a:off x="0" y="3809880"/>
            <a:ext cx="9144000" cy="3048120"/>
          </a:xfrm>
          <a:prstGeom prst="pie">
            <a:avLst/>
          </a:prstGeom>
          <a:solidFill>
            <a:srgbClr val="ff5c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259092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Jessica and Enr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352680" y="-78120"/>
            <a:ext cx="5703840" cy="6913800"/>
            <a:chOff x="3352680" y="-78120"/>
            <a:chExt cx="5703840" cy="6913800"/>
          </a:xfrm>
        </p:grpSpPr>
        <p:pic>
          <p:nvPicPr>
            <p:cNvPr id="179" name="" descr=""/>
            <p:cNvPicPr/>
            <p:nvPr/>
          </p:nvPicPr>
          <p:blipFill>
            <a:blip r:embed="rId2"/>
            <a:srcRect l="8353" t="8353" r="8096" b="8096"/>
            <a:stretch/>
          </p:blipFill>
          <p:spPr>
            <a:xfrm>
              <a:off x="3352680" y="4473720"/>
              <a:ext cx="236232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 flipV="1">
              <a:off x="5703840" y="-14760"/>
              <a:ext cx="3352680" cy="460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5703840" y="-31680"/>
              <a:ext cx="3317760" cy="4573440"/>
            </a:xfrm>
            <a:prstGeom prst="line">
              <a:avLst/>
            </a:prstGeom>
            <a:ln w="19080">
              <a:solidFill>
                <a:srgbClr val="b1f0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5681520" y="-78120"/>
              <a:ext cx="3353040" cy="460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3" name="" descr=""/>
          <p:cNvPicPr/>
          <p:nvPr/>
        </p:nvPicPr>
        <p:blipFill>
          <a:blip r:embed="rId3"/>
          <a:srcRect l="8353" t="14475" r="67397" b="74763"/>
          <a:stretch/>
        </p:blipFill>
        <p:spPr>
          <a:xfrm>
            <a:off x="3429000" y="4648320"/>
            <a:ext cx="685800" cy="304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rcRect l="8353" t="14475" r="67397" b="74763"/>
          <a:stretch/>
        </p:blipFill>
        <p:spPr>
          <a:xfrm rot="2074800">
            <a:off x="4756320" y="5224320"/>
            <a:ext cx="761760" cy="3384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5"/>
          <a:srcRect l="11019" t="15758" r="67397" b="74763"/>
          <a:stretch/>
        </p:blipFill>
        <p:spPr>
          <a:xfrm rot="21237600">
            <a:off x="4952880" y="6400800"/>
            <a:ext cx="746280" cy="3286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6"/>
          <a:srcRect l="11058" t="14475" r="67397" b="74763"/>
          <a:stretch/>
        </p:blipFill>
        <p:spPr>
          <a:xfrm rot="2012400">
            <a:off x="3041640" y="5278320"/>
            <a:ext cx="60948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950"/>
                            </p:stCondLst>
                            <p:childTnLst>
                              <p:par>
                                <p:cTn id="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450"/>
                            </p:stCondLst>
                            <p:childTnLst>
                              <p:par>
                                <p:cTn id="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95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95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3.7037E-006 C 0.03056 -0.02847 0.05712 -0.03611 0.09028 -0.05625 C 0.11858 -0.07314 0.12327 -0.07592 0.15105 -0.08611 C 0.15678 -0.08842 0.16216 -0.09351 0.16806 -0.09421 C 0.20382 -0.09814 0.23976 -0.09814 0.2757 -0.1 C 0.329 -0.11412 0.36007 -0.11527 0.38299 -0.18796 C 0.38525 -0.2368 0.38872 -0.29189 0.42553 -0.31203 C 0.43334 -0.3162 0.44254 -0.31875 0.4507 -0.32199 C 0.45625 -0.32685 0.46303 -0.33194 0.46789 -0.33773 C 0.47726 -0.34907 0.48473 -0.36319 0.49323 -0.37569 C 0.49514 -0.3831 0.49862 -0.38634 0.50035 -0.39375 C 0.50209 -0.40231 0.49983 -0.40185 0.5033 -0.40185 E">
                                      <p:cBhvr>
                                        <p:cTn id="32" dur="5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1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5 0.00787 C -0.02431 0.01481 -0.03542 0.02338 -0.04705 0.02847 C -0.06649 0.03681 -0.1033 0.04005 -0.12378 0.04306 C -0.14167 0.04144 -0.15538 0.04444 -0.1658 0.0169 C -0.16997 -0.02662 -0.19566 -0.05718 -0.21788 -0.07315 C -0.23472 -0.08495 -0.25399 -0.07986 -0.27222 -0.08241 C -0.28108 -0.10671 -0.2691 -0.0706 -0.27656 -0.11019 C -0.27882 -0.1213 -0.28247 -0.13241 -0.28542 -0.14329 C -0.29167 -0.16458 -0.29913 -0.18611 -0.30677 -0.20602 C -0.30816 -0.20995 -0.31076 -0.21319 -0.31215 -0.21713 C -0.31962 -0.23727 -0.32396 -0.26181 -0.33663 -0.27431 C -0.34097 -0.28426 -0.34497 -0.29398 -0.35104 -0.3 C -0.35312 -0.31481 -0.35035 -0.30023 -0.35764 -0.3169 C -0.35868 -0.31852 -0.35937 -0.3287 -0.35972 -0.32963 C -0.36076 -0.33287 -0.36215 -0.33588 -0.36337 -0.33866 C -0.36424 -0.34815 -0.36615 -0.37477 -0.36875 -0.38333 C -0.37031 -0.38843 -0.38385 -0.38843 -0.38646 -0.38866 C -0.39375 -0.39398 -0.39983 -0.39792 -0.40747 -0.39977 C -0.41545 -0.40463 -0.42378 -0.41134 -0.43247 -0.41435 C -0.43715 -0.4162 -0.44688 -0.42014 -0.44688 -0.4206 C -0.45035 -0.42361 -0.45434 -0.43079 -0.45833 -0.43079 E">
                                      <p:cBhvr>
                                        <p:cTn id="40" dur="5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22222E-006 C -0.01354 -0.00648 -0.02691 -0.01458 -0.0408 -0.01944 C -0.06372 -0.02731 -0.10712 -0.03055 -0.13142 -0.0331 C -0.15278 -0.03171 -0.16892 -0.03403 -0.18125 -0.00879 C -0.18628 0.03241 -0.21649 0.06158 -0.24306 0.07662 C -0.26285 0.08773 -0.28594 0.0831 -0.30712 0.08519 C -0.31771 0.10857 -0.30347 0.07431 -0.3125 0.11134 C -0.31528 0.12222 -0.31927 0.13264 -0.32309 0.14283 C -0.33056 0.16297 -0.33906 0.18334 -0.34809 0.20232 C -0.34983 0.20625 -0.3526 0.2088 -0.35451 0.21273 C -0.36302 0.23172 -0.36823 0.25486 -0.38333 0.26667 C -0.38854 0.27616 -0.39306 0.28519 -0.40035 0.29121 C -0.40295 0.30509 -0.39948 0.29144 -0.40816 0.30695 C -0.4092 0.30857 -0.41042 0.31806 -0.41076 0.31898 C -0.41181 0.32222 -0.41354 0.32477 -0.41476 0.32778 C -0.41615 0.33634 -0.41823 0.36181 -0.42135 0.36968 C -0.42326 0.37454 -0.43906 0.37454 -0.44236 0.375 C -0.45087 0.37986 -0.45816 0.38334 -0.46736 0.38542 C -0.47743 0.39005 -0.48698 0.39607 -0.4974 0.39908 C -0.50313 0.40093 -0.51458 0.40463 -0.51458 0.40486 C -0.5184 0.40787 -0.52309 0.41505 -0.52778 0.41505 E">
                                      <p:cBhvr>
                                        <p:cTn id="42" dur="5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alking Tip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e brief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et them do most of the talkin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atch your tone of voice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ometimes it isn't what you say -- it's how you say it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xpress your feelings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veal some of your inner self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mphasize your feelings, not your teen's behavior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on’t overdo it. Expressing your feelings helps to show you’re a real person, but teens are mostly concerned about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their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eeling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e honest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iscuss your ideas, concerns, or thoughts openly and calmly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Dealing with Problem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Use “I” statements.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classic advice of using “I” statements, instead of critical “you” statements, is still a good on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pecifically describe the </a:t>
            </a:r>
            <a:r>
              <a:rPr b="1" lang="en-US" sz="2000" spc="-1" strike="noStrike">
                <a:solidFill>
                  <a:srgbClr val="ebf25a"/>
                </a:solidFill>
                <a:latin typeface="Tahoma"/>
              </a:rPr>
              <a:t>situatio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that is causing your problem. Just describe; don't blame. Say, "When you don't call or come home at the time we agreed on . . ."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ate the </a:t>
            </a:r>
            <a:r>
              <a:rPr b="1" lang="en-US" sz="2000" spc="-1" strike="noStrike">
                <a:solidFill>
                  <a:srgbClr val="ebf25a"/>
                </a:solidFill>
                <a:latin typeface="Tahoma"/>
              </a:rPr>
              <a:t>effec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the situation has on you. ". . . I don't know where you are. . ."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dentify the </a:t>
            </a:r>
            <a:r>
              <a:rPr b="1" lang="en-US" sz="2000" spc="-1" strike="noStrike">
                <a:solidFill>
                  <a:srgbClr val="ebf25a"/>
                </a:solidFill>
                <a:latin typeface="Tahoma"/>
              </a:rPr>
              <a:t>feelin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that you have. ". . . and I begin to worry that something might have happened to you.“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tay calm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Yelling doesn’t help you make your poin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Dealing with Problem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ick and choose your battles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hings that deal with your teenagers’ safety are more important than a messy room or what they wea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ove unconditionally.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n't give or withhold love based on your teenagers’ behavio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pologize.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you have done something to aggravate the situation, be the adult and apologize. Set a good example for your teenager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volve your teenagers in decisions that affect them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he family may not be a democracy, but getting everyone’s input and trying to compromise when possible is importan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Bring on the Show!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 let’s see what Mr. Capulet would do if he had heard all this good advice before he talked with Juliet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[scene acted out]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1" name=""/>
          <p:cNvGraphicFramePr/>
          <p:nvPr/>
        </p:nvGraphicFramePr>
        <p:xfrm>
          <a:off x="7848720" y="5867280"/>
          <a:ext cx="914400" cy="714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48720" y="5867280"/>
                    <a:ext cx="91440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3" name="" descr=""/>
          <p:cNvPicPr/>
          <p:nvPr/>
        </p:nvPicPr>
        <p:blipFill>
          <a:blip r:embed="rId4"/>
          <a:srcRect l="0" t="3762" r="3936" b="4098"/>
          <a:stretch/>
        </p:blipFill>
        <p:spPr>
          <a:xfrm>
            <a:off x="-152280" y="0"/>
            <a:ext cx="9296280" cy="713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" dur="5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rcRect l="0" t="3762" r="3936" b="4098"/>
          <a:stretch/>
        </p:blipFill>
        <p:spPr>
          <a:xfrm>
            <a:off x="0" y="0"/>
            <a:ext cx="9296280" cy="713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0" dur="5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ahoma"/>
              </a:rPr>
              <a:t>When the Drama Begins at Your Home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ree Things for You to Try This Week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n you ask “how was your day?” and your teenager actually answers, stop what you’re doing and really list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sciously decide to not criticize or pick about the small stuff—try it for a full week and see what happe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n an argument is brewing, stop and calmly talk--without blame--about the </a:t>
            </a:r>
            <a:r>
              <a:rPr b="1" lang="en-US" sz="2400" spc="-1" strike="noStrike">
                <a:solidFill>
                  <a:srgbClr val="ebf25a"/>
                </a:solidFill>
                <a:latin typeface="Tahoma"/>
              </a:rPr>
              <a:t>situa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volving the problem,</a:t>
            </a:r>
            <a:r>
              <a:rPr b="1" lang="en-US" sz="2400" spc="-1" strike="noStrike">
                <a:solidFill>
                  <a:srgbClr val="ebf25a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2400" spc="-1" strike="noStrike">
                <a:solidFill>
                  <a:srgbClr val="ebf25a"/>
                </a:solidFill>
                <a:latin typeface="Tahoma"/>
              </a:rPr>
              <a:t>effec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he situation has on you, and the </a:t>
            </a:r>
            <a:r>
              <a:rPr b="1" lang="en-US" sz="2400" spc="-1" strike="noStrike">
                <a:solidFill>
                  <a:srgbClr val="ebf25a"/>
                </a:solidFill>
                <a:latin typeface="Tahoma"/>
              </a:rPr>
              <a:t>feeli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hat you have--using “I” statement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7772400" y="5791320"/>
          <a:ext cx="1219320" cy="952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2400" y="5791320"/>
                    <a:ext cx="121932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hoto Credit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47920" y="1599840"/>
            <a:ext cx="7238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photograph is from Matheson Lang's production of </a:t>
            </a: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Romeo and Juliet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which opened at the Lyceum Theatre, London, on March 14, 1908, and ran through May 30, 1908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t is a postcard published by Rotary Photo, London. Card No. 7423E. Photograph by the Daily Mirror Studio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ora Kerin as Juliet; Herbert Grimwood as Capule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http://shakespeare.emory.edu/postcarddisplay.cfm?cardid=54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hotograph of a bedroom in the Dolmabahce Palace, Istanbul, Turke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hotographer: Judi Yost. Used with permiss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912960" y="1676520"/>
            <a:ext cx="839520" cy="1371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609480" y="3200400"/>
            <a:ext cx="1176480" cy="8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Reference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ulf, Dick. “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Dialogue--The Key to Family Harmony.” Focus on the Family. 2004. http://www.focusonyourchild.com/relation/art1/A0000777.html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loyd, Trefor. “Parenting.” BBC. http://www.bbc.co.uk/parenting/your_kids/teen_communicating.shtml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“Parent/Child Communication.”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Bradley Hospital.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ttp://www.lifespan.org/Services/ChildHealth/Parenting/PDF/communication2.PDF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avis, Louise. “Parent-Teen Communication.” Mississippi State University Extension. 29 Mar 2004. http://msucares.com/pubs/publications/p1452.ht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5337" y="10800"/>
                </a:moveTo>
                <a:lnTo>
                  <a:pt x="19350" y="3794"/>
                </a:lnTo>
                <a:lnTo>
                  <a:pt x="19350" y="17806"/>
                </a:lnTo>
                <a:close/>
              </a:path>
            </a:pathLst>
          </a:custGeom>
          <a:solidFill>
            <a:srgbClr val="ebf2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"/>
              </a:rPr>
              <a:t>Return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"/>
              </a:rPr>
              <a:t>Previou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"/>
              </a:rPr>
              <a:t>Sli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Does This Sound Like Your Family?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91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ent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Yelling and threaten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iving ultimatum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rowing insul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king future plans without considering their child’s feeling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enager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Yelling and Cry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y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neaking out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unning awa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busing drug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fying author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king future plans without considering their parents’ feeling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>
            <a:off x="609480" y="54100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ligraph421 BT"/>
              </a:rPr>
              <a:t>This is a description of Juliet’s family from the play </a:t>
            </a:r>
            <a:r>
              <a:rPr b="0" i="1" lang="en-US" sz="2400" spc="-1" strike="noStrike">
                <a:solidFill>
                  <a:srgbClr val="ffffff"/>
                </a:solidFill>
                <a:latin typeface="Calligraph421 BT"/>
              </a:rPr>
              <a:t>Romeo and Juliet</a:t>
            </a:r>
            <a:r>
              <a:rPr b="0" lang="en-US" sz="2400" spc="-1" strike="noStrike">
                <a:solidFill>
                  <a:srgbClr val="ffffff"/>
                </a:solidFill>
                <a:latin typeface="Calligraph421 BT"/>
              </a:rPr>
              <a:t>…Times haven’t changed much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90600" cy="35719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990720" y="1219320"/>
            <a:ext cx="8839080" cy="6476760"/>
          </a:xfrm>
          <a:prstGeom prst="irregularSeal2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21252600">
            <a:off x="2635560" y="3435120"/>
            <a:ext cx="613260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Hang thee, young baggage! Disobedient wretch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I tell thee what,--get thee to church o’ Thursday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Or never after look me in the fac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Speak not, reply not, do not answer me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My fingers itch [to hit you]…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ord Capulet to Jul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Romeo and Juliet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Act III, scene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528000">
            <a:off x="1904760" y="0"/>
            <a:ext cx="5562360" cy="2590920"/>
          </a:xfrm>
          <a:prstGeom prst="irregularSeal1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242400">
            <a:off x="2376000" y="76176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7ffff"/>
                </a:solidFill>
                <a:latin typeface="Arial"/>
              </a:rPr>
              <a:t>“…</a:t>
            </a:r>
            <a:r>
              <a:rPr b="1" lang="en-US" sz="1400" spc="-1" strike="noStrike">
                <a:solidFill>
                  <a:srgbClr val="e7ffff"/>
                </a:solidFill>
                <a:latin typeface="Arial"/>
              </a:rPr>
              <a:t>tell my lord and father, madam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7ffff"/>
                </a:solidFill>
                <a:latin typeface="Arial"/>
              </a:rPr>
              <a:t>I will not marry yet…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620120" y="304920"/>
            <a:ext cx="14475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That story didn’t tur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out wel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There mu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be a better way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294600">
            <a:off x="2742840" y="1219320"/>
            <a:ext cx="3741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e7ffff"/>
                </a:solidFill>
                <a:latin typeface="Tahoma"/>
              </a:rPr>
              <a:t>Lies! </a:t>
            </a:r>
            <a:r>
              <a:rPr b="1" lang="en-US" sz="1300" spc="-1" strike="noStrike">
                <a:solidFill>
                  <a:srgbClr val="e7ffff"/>
                </a:solidFill>
                <a:latin typeface="Tahoma"/>
              </a:rPr>
              <a:t>She was already married to Romeo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e7ffff"/>
                </a:solidFill>
                <a:latin typeface="Tahoma"/>
              </a:rPr>
              <a:t>behind her parents’ back!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77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" dur="770" fill="hold"/>
                                        <p:tgtEl>
                                          <p:spTgt spid="1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" dur="77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" dur="77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What </a:t>
            </a:r>
            <a:r>
              <a:rPr b="1" i="1" lang="en-US" sz="3800" spc="-1" strike="noStrike">
                <a:solidFill>
                  <a:srgbClr val="ffffcc"/>
                </a:solidFill>
                <a:latin typeface="Tahoma"/>
              </a:rPr>
              <a:t>Not</a:t>
            </a: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 To Do If You </a:t>
            </a:r>
            <a:r>
              <a:rPr b="0" i="1" lang="en-US" sz="3800" spc="-1" strike="noStrike">
                <a:solidFill>
                  <a:srgbClr val="ffffcc"/>
                </a:solidFill>
                <a:latin typeface="Tahoma"/>
              </a:rPr>
              <a:t>Really</a:t>
            </a: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 Want to Talk to Your Teenagers…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rvey Results from 126 teenagers (58% girls, 42% boy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uestion: What is the number one thing your parents s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r do to shut down communication between you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534960" y="2867040"/>
          <a:ext cx="820116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4960" y="2867040"/>
                    <a:ext cx="820116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What </a:t>
            </a:r>
            <a:r>
              <a:rPr b="1" i="1" lang="en-US" sz="3800" spc="-1" strike="noStrike">
                <a:solidFill>
                  <a:srgbClr val="ffffcc"/>
                </a:solidFill>
                <a:latin typeface="Tahoma"/>
              </a:rPr>
              <a:t>Not</a:t>
            </a: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 To Do If You </a:t>
            </a:r>
            <a:r>
              <a:rPr b="0" i="1" lang="en-US" sz="3800" spc="-1" strike="noStrike">
                <a:solidFill>
                  <a:srgbClr val="ffffcc"/>
                </a:solidFill>
                <a:latin typeface="Tahoma"/>
              </a:rPr>
              <a:t>Really</a:t>
            </a: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 Want to Talk to Your Teenagers…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y things that make them “feel bad, disappointed, threatened, stupid or wro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t breeds low self-esteem, destroys confidence, encourages performance anxiety, causes distrust, results in avoidance of family events.”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y to correct, criticize, or change the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gue with the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y, “I know what you mean” or over-sympathize before you have understand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What </a:t>
            </a:r>
            <a:r>
              <a:rPr b="1" i="1" lang="en-US" sz="3800" spc="-1" strike="noStrike">
                <a:solidFill>
                  <a:srgbClr val="ffffcc"/>
                </a:solidFill>
                <a:latin typeface="Tahoma"/>
              </a:rPr>
              <a:t>Not</a:t>
            </a: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 To Do If You </a:t>
            </a:r>
            <a:r>
              <a:rPr b="0" i="1" lang="en-US" sz="3800" spc="-1" strike="noStrike">
                <a:solidFill>
                  <a:srgbClr val="ffffcc"/>
                </a:solidFill>
                <a:latin typeface="Tahoma"/>
              </a:rPr>
              <a:t>Really</a:t>
            </a: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 Want to Talk to Your Teenagers…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ush your ideas down your teenagers’ throat.”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f you try to impose your ideas on them, they will most likely reject what you have to offer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rying to mold your teenagers into your own image won’t work. This is the time for them to find out who they are—and it’s not you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g or complain about a behavior, action, or inac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 all the talking, diagnose the problem, and give lots of advic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react if you hear something you don’t like or that worries you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rupt, correct grammar or do two things at once. These are all signals that you aren't really interested.”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What To Do If You </a:t>
            </a:r>
            <a:r>
              <a:rPr b="0" i="1" lang="en-US" sz="3800" spc="-1" strike="noStrike">
                <a:solidFill>
                  <a:srgbClr val="ffffcc"/>
                </a:solidFill>
                <a:latin typeface="Tahoma"/>
              </a:rPr>
              <a:t>Really</a:t>
            </a: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 Want to Talk to Your Teenagers …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k open-ended questions that help clarify what the person mea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amples: Do you mean…? Why do you think that happened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k their opinion—and want to hear i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ccept their opinions and what they have to say—it doesn’t mean you agree, but that you 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d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value their thought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void conflict over answers. There are no right or wrong answers”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hen it comes to opinions.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1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sten in order to understand—not to change the other pers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concern for the other person’s feeling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What To Do If You </a:t>
            </a:r>
            <a:r>
              <a:rPr b="0" i="1" lang="en-US" sz="3800" spc="-1" strike="noStrike">
                <a:solidFill>
                  <a:srgbClr val="ffffcc"/>
                </a:solidFill>
                <a:latin typeface="Tahoma"/>
              </a:rPr>
              <a:t>Really</a:t>
            </a: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 Want to Talk to Your Teenagers …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ke time for just talking and, most importantly, for listening every da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se all the informal opportunities you can to communicate - for example, driving.”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on’t force the time to talk—make sure that it’s a convenient time for your teenager, to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ke it a priority to be available even if it's not a convenient time for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you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n’t try to solve problems when you’re just talking to better understand each other’s viewpoints. That can come lat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ep your sense of humor, but never tease about a sensitive subject. Learn to laugh about the small stuff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Listening Tip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Be attentive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top other activiti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cus fully, using your eyes as well as your ears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sensitive to their tone of voice and expression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ncourage talk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mile, if appropriate, or nod to show you understand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atch your body languag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eep your questions brief, open, and positive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mpathize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ry to remember what it was like when you were a teen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cus on underlying feelings that your teen may find difficult to express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Listen with respect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act to your teenager as you would to an adult friend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t them vent their grievances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ry not to interrupt or push a topic they don't want to discuss.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4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3T01:25:30Z</dcterms:created>
  <dc:creator>Judi Yost</dc:creator>
  <dc:description/>
  <dc:language>en-US</dc:language>
  <cp:lastModifiedBy>Judi Yost</cp:lastModifiedBy>
  <dcterms:modified xsi:type="dcterms:W3CDTF">2005-01-18T16:22:47Z</dcterms:modified>
  <cp:revision>38</cp:revision>
  <dc:subject/>
  <dc:title>How to Talk to a Brick Wall: Tearing Down the Barriers between You and Your Teenager</dc:title>
</cp:coreProperties>
</file>